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EB75-6F00-4C56-A7D6-5905CC5ECDE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C84-385F-4812-8105-E7223A15B9A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E8E-94D4-4C64-993F-D0A903A2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DB5-8968-4D90-9E24-B0397E9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EAF-5057-4D28-8538-DF19E75F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141-DE61-4FE6-BCB9-8F199098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9370-8DFC-4F1B-BC29-7CF1186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072C-C919-4034-991C-53AFDC1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B59B-B910-4C8F-B712-16F0AC83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5CE-3919-48D1-AB3A-96612A16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514-B9AD-4304-9773-2BDCEA6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EDF-B841-482E-ABCD-DD209C2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97EE-AC6F-4FD8-90FF-B693750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81E-0397-44F4-A2F1-5058DB0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5B2F-5ACC-4E3D-AFCD-B6C2B8B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777-32EB-4225-A10F-2C9ECD2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C766-BBD8-4A51-B4EE-A00896F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49A-82A6-410D-A0FC-E7699D53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1AFC-8957-4221-9804-949A86A2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12B4-2EA7-4A53-A643-6F8F265A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6FD5-22B4-42C5-8186-42136F4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3E96-3F6D-4ACC-90B2-84B88A1D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1CC5-E305-4774-8070-344D742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F939-D6B3-49C1-A0BF-EDA8F90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2AC-68B1-436A-AEB4-C62DAAF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34D3-80EE-47CA-A178-37DDD67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10C0-17DD-4E49-AB25-DEAE124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3A94-A48E-4E20-B046-4F20A40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7004-0B01-4EFF-84EE-659C860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DFE7-DC4E-41C3-86D0-99C6B91A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2D6B-A6E4-429B-B057-968E32E7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8E73-E1BF-41AA-86C9-2DC9AB6D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280F-D315-4E33-999F-DBA6437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1384-7A28-4240-9D03-A8D5B2AE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8837-D840-4B01-93D1-902C9CD3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C91-0094-458D-AC90-CAACA1C4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B84A-F33D-435D-ADE4-FC79C97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F14AE-C2BA-455E-BFC7-41C4BB3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202A-0303-4F05-81A2-7CDD5FCF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702B-7FF3-4EE5-AD1D-BD0EB43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5EA6-784B-4FB1-8B7E-DA435EB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D6C1-6E8E-499C-93D6-445671F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F531-7A3C-4B16-BE8B-3BB119EC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24A7-00AC-4306-989D-770AE8D8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CC1B-B33D-4DD4-803D-558989A0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C4A-C09F-42AA-96AF-1CFC418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D35-07A9-4315-BA3B-8431FDB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483-A9DB-47D5-9698-A3803C8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CFA-5E10-4794-9348-15FB7BD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004-DA8D-42C9-83A6-65700B8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E6AF-6897-46BE-8CF4-2E587B8D0003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B304-AF67-4A96-9C55-B72470113100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F0A-DCC8-48DE-8157-7C637ABA5AEE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F81-5036-4A9A-956E-863746EBF20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&#193;lvaro_Obreg&#243;n_(Distrito_Federal)" TargetMode="External"/><Relationship Id="rId2" Type="http://schemas.openxmlformats.org/officeDocument/2006/relationships/hyperlink" Target="http://es.wikipedia.org/wiki/Azcapotzalco" TargetMode="External"/><Relationship Id="rId3" Type="http://schemas.openxmlformats.org/officeDocument/2006/relationships/hyperlink" Target="http://es.wikipedia.org/wiki/Benito_Ju&#225;rez_(Distrito_Federal)" TargetMode="External"/><Relationship Id="rId4" Type="http://schemas.openxmlformats.org/officeDocument/2006/relationships/hyperlink" Target="http://es.wikipedia.org/wiki/Coyoac&#225;n" TargetMode="External"/><Relationship Id="rId5" Type="http://schemas.openxmlformats.org/officeDocument/2006/relationships/hyperlink" Target="http://es.wikipedia.org/wiki/Cuajimalpa_de_Morelos" TargetMode="External"/><Relationship Id="rId6" Type="http://schemas.openxmlformats.org/officeDocument/2006/relationships/hyperlink" Target="http://es.wikipedia.org/wiki/Cuauht&#233;moc_(Distrito_Federal)" TargetMode="External"/><Relationship Id="rId7" Type="http://schemas.openxmlformats.org/officeDocument/2006/relationships/hyperlink" Target="http://es.wikipedia.org/wiki/Gustavo_A._Madero_(Distrito_Federal)" TargetMode="External"/><Relationship Id="rId8" Type="http://schemas.openxmlformats.org/officeDocument/2006/relationships/hyperlink" Target="http://es.wikipedia.org/wiki/Iztacalco" TargetMode="External"/><Relationship Id="rId9" Type="http://schemas.openxmlformats.org/officeDocument/2006/relationships/hyperlink" Target="http://es.wikipedia.org/wiki/Iztapalapa" TargetMode="External"/><Relationship Id="rId10" Type="http://schemas.openxmlformats.org/officeDocument/2006/relationships/hyperlink" Target="http://es.wikipedia.org/wiki/La_Magdalena_Contreras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433440" y="3060720"/>
            <a:ext cx="8577360" cy="1895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26920" y="4869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Maestra: Eva Luz Irene Luna Varg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2 Imagen" descr=""/>
          <p:cNvPicPr/>
          <p:nvPr/>
        </p:nvPicPr>
        <p:blipFill>
          <a:blip r:embed="rId1"/>
          <a:srcRect l="23761" t="28804" r="8690" b="11414"/>
          <a:stretch/>
        </p:blipFill>
        <p:spPr>
          <a:xfrm>
            <a:off x="324000" y="549360"/>
            <a:ext cx="8496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3 Imagen" descr=""/>
          <p:cNvPicPr/>
          <p:nvPr/>
        </p:nvPicPr>
        <p:blipFill>
          <a:blip r:embed="rId1"/>
          <a:srcRect l="35303" t="27992" r="16329" b="8698"/>
          <a:stretch/>
        </p:blipFill>
        <p:spPr>
          <a:xfrm>
            <a:off x="1042920" y="1174680"/>
            <a:ext cx="6397560" cy="4991040"/>
          </a:xfrm>
          <a:prstGeom prst="rect">
            <a:avLst/>
          </a:prstGeom>
          <a:ln w="0">
            <a:noFill/>
          </a:ln>
        </p:spPr>
      </p:pic>
      <p:sp>
        <p:nvSpPr>
          <p:cNvPr id="206" name="2 CuadroTexto"/>
          <p:cNvSpPr/>
          <p:nvPr/>
        </p:nvSpPr>
        <p:spPr>
          <a:xfrm>
            <a:off x="5724360" y="2349360"/>
            <a:ext cx="230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DISTRITO FEDER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CENSO DE POBLACIÓN Y VIVIENDA, 20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4 Imagen" descr=""/>
          <p:cNvPicPr/>
          <p:nvPr/>
        </p:nvPicPr>
        <p:blipFill>
          <a:blip r:embed="rId2"/>
          <a:srcRect l="35474" t="32612" r="24646" b="8967"/>
          <a:stretch/>
        </p:blipFill>
        <p:spPr>
          <a:xfrm>
            <a:off x="5219640" y="3573360"/>
            <a:ext cx="30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835280" y="907920"/>
          <a:ext cx="5832360" cy="5329440"/>
        </p:xfrm>
        <a:graphic>
          <a:graphicData uri="http://schemas.openxmlformats.org/drawingml/2006/table">
            <a:tbl>
              <a:tblPr/>
              <a:tblGrid>
                <a:gridCol w="3108240"/>
                <a:gridCol w="1658880"/>
                <a:gridCol w="1065240"/>
              </a:tblGrid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g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(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(km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7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Alvaro Obreg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.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Azcapotza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.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Benito Juá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Coyoac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Cuajimal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.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Cuauhtém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Gustavo A. M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93.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Iztaca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Iztapala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20.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Magdalena Contre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.9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guel Hidal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.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lpa 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láhu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.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lal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.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enustiano Carr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.4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ochimi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.4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20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99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1692360" y="1341360"/>
          <a:ext cx="5884920" cy="47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341360"/>
                    <a:ext cx="58849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Object 1" descr=""/>
          <p:cNvPicPr/>
          <p:nvPr/>
        </p:nvPicPr>
        <p:blipFill>
          <a:blip r:embed="rId1"/>
          <a:stretch/>
        </p:blipFill>
        <p:spPr>
          <a:xfrm>
            <a:off x="1014480" y="1413000"/>
            <a:ext cx="7751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Gráfico 1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2484360" y="3789360"/>
            <a:ext cx="5629320" cy="25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468360" y="1006560"/>
          <a:ext cx="4895640" cy="2106360"/>
        </p:xfrm>
        <a:graphic>
          <a:graphicData uri="http://schemas.openxmlformats.org/drawingml/2006/table">
            <a:tbl>
              <a:tblPr/>
              <a:tblGrid>
                <a:gridCol w="819000"/>
                <a:gridCol w="762120"/>
                <a:gridCol w="834840"/>
                <a:gridCol w="814680"/>
                <a:gridCol w="765000"/>
                <a:gridCol w="900000"/>
              </a:tblGrid>
              <a:tr h="1926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ec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gridSpan="5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ZONA SUR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</a:tr>
              <a:tr h="2937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3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4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5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6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7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4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8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908000" y="1484280"/>
          <a:ext cx="4673880" cy="781200"/>
        </p:xfrm>
        <a:graphic>
          <a:graphicData uri="http://schemas.openxmlformats.org/drawingml/2006/table">
            <a:tbl>
              <a:tblPr/>
              <a:tblGrid>
                <a:gridCol w="333720"/>
                <a:gridCol w="331560"/>
                <a:gridCol w="333360"/>
                <a:gridCol w="333360"/>
                <a:gridCol w="333360"/>
                <a:gridCol w="400320"/>
                <a:gridCol w="399960"/>
                <a:gridCol w="398520"/>
                <a:gridCol w="399960"/>
                <a:gridCol w="333360"/>
                <a:gridCol w="333360"/>
                <a:gridCol w="333360"/>
                <a:gridCol w="409680"/>
              </a:tblGrid>
              <a:tr h="200160">
                <a:tc gridSpan="1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DO DE VERACRUZ TEMPERATURA (°C) Y PRECIPITACIÓN (mm) en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5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2 Gráfico" descr=""/>
          <p:cNvPicPr/>
          <p:nvPr/>
        </p:nvPicPr>
        <p:blipFill>
          <a:blip r:embed="rId1"/>
          <a:stretch/>
        </p:blipFill>
        <p:spPr>
          <a:xfrm>
            <a:off x="1974960" y="3060720"/>
            <a:ext cx="458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2:08:18Z</dcterms:created>
  <dc:creator>Emilio</dc:creator>
  <dc:description/>
  <dc:language>en-US</dc:language>
  <cp:lastModifiedBy>Invitadoss</cp:lastModifiedBy>
  <dcterms:modified xsi:type="dcterms:W3CDTF">2011-05-20T21:32:41Z</dcterms:modified>
  <cp:revision>4</cp:revision>
  <dc:subject/>
  <dc:title>TABLAS, GRÁFICAS E INFORMACIÓN ESTADÍSTICA.</dc:title>
</cp:coreProperties>
</file>